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ct" ContentType="image/x-pict"/>
  <Override PartName="/ppt/media/image19.jpeg" ContentType="image/jpeg"/>
  <Override PartName="/ppt/media/image13.pct" ContentType="image/x-pict"/>
  <Override PartName="/ppt/media/image2.png" ContentType="image/png"/>
  <Override PartName="/ppt/media/image8.pct" ContentType="image/x-pict"/>
  <Override PartName="/ppt/media/image6.jpeg" ContentType="image/jpeg"/>
  <Override PartName="/ppt/media/image11.jpeg" ContentType="image/jpeg"/>
  <Override PartName="/ppt/media/image10.jpeg" ContentType="image/jpeg"/>
  <Override PartName="/ppt/media/image5.jpeg" ContentType="image/jpeg"/>
  <Override PartName="/ppt/media/image23.pct" ContentType="image/x-pict"/>
  <Override PartName="/ppt/media/image22.png" ContentType="image/png"/>
  <Override PartName="/ppt/media/image21.pct" ContentType="image/x-pict"/>
  <Override PartName="/ppt/media/image18.jpeg" ContentType="image/jpeg"/>
  <Override PartName="/ppt/media/image4.pct" ContentType="image/x-pict"/>
  <Override PartName="/ppt/media/image1.jpeg" ContentType="image/jpeg"/>
  <Override PartName="/ppt/media/image7.png" ContentType="image/png"/>
  <Override PartName="/ppt/media/image20.jpeg" ContentType="image/jpeg"/>
  <Override PartName="/ppt/media/image15.pct" ContentType="image/x-pict"/>
  <Override PartName="/ppt/media/image17.png" ContentType="image/png"/>
  <Override PartName="/ppt/media/image14.pct" ContentType="image/x-pict"/>
  <Override PartName="/ppt/media/image16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9753-3659-4EA5-BF71-3FD6373AD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place to give a personal example – of a classroom you’ve taught or seen that had students at multiple grade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s on this slide can be mentioned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nd talk about each green box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What is being taught.  You can differentiate the actual content being presented to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learns what is being taught.  For example, some students need to interact with the material physically, some might prefer to read a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shows what he/she has learned.  For example, students can write a paper or they can present information or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in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kill level and background knowledge of child.  We try to stay away from the word “ability” because you don’t always know the ability level of a child if their readiness level is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hild’s interest or preferences – these can be interests within the curricular area (for example, they might be interested specifically in learning about folklore in a unit on volcanoes) or in general (for example, knowing a student’s favorite cartoon character could allow you to tie that into an example and might motivate the 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rning Pro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is includes learning style (is the student a visual, auditory, tactile, or kinesthetic learner), as well as preferences for environmental (such as level of distraction, exposure to light or noise) or grouping factors (small group, large group, or individ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oints to make while talking about this s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fferentiate instruction is to recognize students’ varying background knowledge, readiness, learning styles, and interests and to react to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nt of differentiated instruction is to maximize each student’s growth and individual success by meeting each student where he or she is and designing instruction that matches students’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nd talk about each green box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What is being taught.  You can differentiate the actual content being presented to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learns what is being taught.  For example, some students need to interact with the material physically, some might prefer to read a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shows what he/she has learned.  For example, students can write a paper or they can present information or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in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kill level and background knowledge of child.  We try to stay away from the word “ability” because you don’t always know the ability level of a child if their readiness level is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hild’s interest or preferences – these can be interests within the curricular area (for example, they might be interested specifically in learning about folklore in a unit on volcanoes) or in general (for example, knowing a student’s favorite cartoon character could allow you to tie that into an example and might motivate the 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rning Pro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is includes learning style (is the student a visual, auditory, tactile, or kinesthetic learner), as well as preferences for environmental (such as level of distraction, exposure to light or noise) or grouping factors (small group, large group, or individ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nd talk about each green box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What is being taught.  You can differentiate the actual content being presented to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learns what is being taught.  For example, some students need to interact with the material physically, some might prefer to read a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ow the student shows what he/she has learned.  For example, students can write a paper or they can present information or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in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kill level and background knowledge of child.  We try to stay away from the word “ability” because you don’t always know the ability level of a child if their readiness level is 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hild’s interest or preferences – these can be interests within the curricular area (for example, they might be interested specifically in learning about folklore in a unit on volcanoes) or in general (for example, knowing a student’s favorite cartoon character could allow you to tie that into an example and might motivate the 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arning Pro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This includes learning style (is the student a visual, auditory, tactile, or kinesthetic learner), as well as preferences for environmental (such as level of distraction, exposure to light or noise) or grouping factors (small group, large group, or individ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027-923C-445E-BECF-888FEF72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E22-2C0E-42AC-A211-CB5D08F8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A41-879D-4314-A582-8869D92E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37F-7747-46C9-B7B2-5DCA5394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0881-FB38-4C06-8094-E5625616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9F50-230B-4206-B67F-032E49A1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DD88-EEB6-4C54-A5E6-0F7A96A6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1081-5C54-422A-A15F-E8949C8E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ED81-AE6D-4FAC-9299-DD8FDFED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53F-A878-430F-B16B-C0CE0D83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6849-2880-4861-AE3D-F32E9147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7B4-CCA9-4E91-8F1E-38BDE236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2D2D-5EDF-4B5A-AD50-2D47FAC3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7057-EA75-4AAC-A545-1917D464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E2C6-DF9F-409A-9A4F-F05EC643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C2D5-BD84-4A83-ABBA-667759D2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D2C7-2D56-47DC-9D60-B3743BD5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504-7CE3-48D0-86DE-E0239F8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6D8-F025-47C2-A40C-9E7E079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2DB-4C9C-4EB6-B977-8A79A640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7EA-6A4E-408E-B7B2-1A6572E0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FE0-8DC6-42D0-9D31-9B8FF356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63B-C347-4581-95A5-996E530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F16-C901-467F-AE56-84FB376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2706-2B9A-42CD-B726-592ADEF2AD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36A1-6741-4E74-98AA-E4DEC35804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akar95@verinet.com" TargetMode="External"/><Relationship Id="rId2" Type="http://schemas.openxmlformats.org/officeDocument/2006/relationships/hyperlink" Target="mailto:theisent@gmail.com" TargetMode="External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While we are waiting to start do the following: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438280"/>
            <a:ext cx="8534160" cy="78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Teacher Strategy Profile-page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Check three you already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Futura"/>
              </a:rPr>
              <a:t>b. Check one you want to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a"/>
              </a:rPr>
              <a:t>Why Differentiate?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696080" cy="4273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969696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utura"/>
              </a:rPr>
              <a:t>To provide access, equity and support for all studen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204156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2133720"/>
            <a:ext cx="1904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200" y="327672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cording to Studen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6440" y="6361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0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How Can Teachers Differenti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8960" y="6361200"/>
            <a:ext cx="66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The Differentiated Classroom:  Responding to the Needs of All Learner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omlinson, 1999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047760" y="14479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447920"/>
            <a:ext cx="1752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00400" y="40384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038480"/>
            <a:ext cx="175248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57200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715000" cy="4156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304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"/>
              </a:rPr>
              <a:t>The Many Layers of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334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The many layers of a stud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80920" y="817560"/>
            <a:ext cx="76536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In order to teach the squirrels,   you must think like the squirrel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113360" cy="5486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eling confus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4029120" cy="58672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a"/>
              </a:rPr>
              <a:t>Guiding Principles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9880" y="2057040"/>
            <a:ext cx="51055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There is a balance between whole class learning and different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Essential questions guide instr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Instruction aligns with standards and curricul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825640" cy="37335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Characteristics of a differentiated classroom..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High Expectations for 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Respectful tas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Flexible group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Ongoing 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Positive and safe learning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Ch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Collab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What is Differentiation?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969696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A teacher’s response to learner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The recognition of students’ varying background knowledge and learning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Instruction that honors students’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A philosophy of teaching and not just a set of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What does content mean?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267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What a student knows, understands and is able to do as a result of the instruction:          the “input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00"/>
                </a:solidFill>
                <a:latin typeface="Futura"/>
              </a:rPr>
              <a:t>Differentiated Instruction to Support and Challeng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Futura"/>
              </a:rPr>
              <a:t>our 21st Century Learner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43040" y="2742840"/>
            <a:ext cx="43434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ni Theis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veland High Schoo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ompson School Distri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veland, C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0-412-0256</a:t>
            </a:r>
            <a:br>
              <a:rPr sz="1600"/>
            </a:br>
            <a:r>
              <a:rPr b="0" lang="en-US" sz="1600" spc="-1" strike="noStrike" u="sng">
                <a:solidFill>
                  <a:srgbClr val="0066cc"/>
                </a:solidFill>
                <a:uFillTx/>
                <a:latin typeface="Comic Sans MS"/>
                <a:hlinkClick r:id="rId1"/>
              </a:rPr>
              <a:t>dakar95@verine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omic Sans MS"/>
                <a:hlinkClick r:id="rId2"/>
              </a:rPr>
              <a:t>theisent@gmai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tonitheisen.wikispace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lhsfrenchclasses.wikispace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3520" y="1905120"/>
            <a:ext cx="3565440" cy="47242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ransition spd="slow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What does process mean?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The process helps the student “make sense of”, make meaning from, or “own” the conten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What does product mean?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How the student demonstrates what s/he knows, understands, and is able to do:                  the “output”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31520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Futura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ffffff"/>
                </a:solidFill>
                <a:latin typeface="Futura"/>
                <a:ea typeface="Times New Roman"/>
              </a:rPr>
              <a:t>Aspects of teaching for engaging all learner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2133720"/>
            <a:ext cx="1904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200" y="327672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cording to Studen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6440" y="6361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0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How Can Teachers Differenti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8960" y="6361200"/>
            <a:ext cx="66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The Differentiated Classroom:  Responding to the Needs of All Learner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omlinson, 1999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047760" y="14479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447920"/>
            <a:ext cx="1752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00400" y="40384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4038480"/>
            <a:ext cx="175248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457200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utura"/>
              </a:rPr>
              <a:t>Some basic strategies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Menu choice boar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Tiered less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R.A.F.T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Learning Cente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24360" cy="5470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0"/>
            <a:ext cx="58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Futura"/>
              </a:rPr>
              <a:t>Choice Board Men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304560"/>
            <a:ext cx="7848360" cy="6095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   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      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                </a:t>
            </a: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lesson for Readin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How to tier for readiness..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oncre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oncrete/Abstr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Abstr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R.A.F.T.</a:t>
            </a: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writing</a:t>
            </a:r>
            <a:br>
              <a:rPr sz="4400"/>
            </a:br>
            <a:r>
              <a:rPr b="1" lang="en-US" sz="4000" spc="-1" strike="noStrike">
                <a:solidFill>
                  <a:srgbClr val="ffffff"/>
                </a:solidFill>
                <a:latin typeface="Futura"/>
              </a:rPr>
              <a:t>(provides purpose for writing)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666880"/>
            <a:ext cx="855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R-role of the writ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A-audi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F-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T-topic (+strong verb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"/>
              </a:rPr>
              <a:t>R.A.F.T. Assignme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a"/>
              </a:rPr>
              <a:t>French 2--Traveling in France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71600" y="1243080"/>
            <a:ext cx="67816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Goal:</a:t>
            </a:r>
            <a:endParaRPr b="0" lang="en-US" sz="8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5" name=""/>
          <p:cNvSpPr/>
          <p:nvPr/>
        </p:nvSpPr>
        <p:spPr>
          <a:xfrm>
            <a:off x="1957320" y="22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Students who can function in real-world situations that are authentic, predictable, unpredictable and vita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76520" y="291960"/>
            <a:ext cx="56386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340080" y="2824200"/>
            <a:ext cx="1828800" cy="1828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53160" y="1909800"/>
            <a:ext cx="17143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96720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499572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113364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02392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081320"/>
            <a:ext cx="17146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248112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465300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181480" y="3281400"/>
            <a:ext cx="57168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81360" y="3395520"/>
            <a:ext cx="571320" cy="2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81360" y="3750840"/>
            <a:ext cx="571320" cy="33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286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Learning Cen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809880"/>
            <a:ext cx="685800" cy="29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Futura"/>
              </a:rPr>
              <a:t>Flexible Grouping Practices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895480" y="2895480"/>
          <a:ext cx="314028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402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-842400" y="4648320"/>
            <a:ext cx="1090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Help create a safe and honor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learning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47920" y="2133720"/>
            <a:ext cx="1904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2133720"/>
            <a:ext cx="1905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200" y="327672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cording to Studen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6440" y="6361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80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utura"/>
              </a:rPr>
              <a:t>How Can Teachers Differenti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8960" y="6361200"/>
            <a:ext cx="666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The Differentiated Classroom:  Responding to the Needs of All Learner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Tomlinson, 1999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047760" y="14479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1447920"/>
            <a:ext cx="1752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200400" y="4038480"/>
            <a:ext cx="14479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4038480"/>
            <a:ext cx="175248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464832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4572000"/>
            <a:ext cx="1904760" cy="838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228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0491200">
              <a:off x="4781520" y="1958400"/>
              <a:ext cx="2409840" cy="1014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Comic Sans MS"/>
                </a:rPr>
                <a:t>Stu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Comic Sans MS"/>
                </a:rPr>
                <a:t>Engage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231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76720" y="1371600"/>
            <a:ext cx="4647960" cy="4191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581280" y="1066320"/>
            <a:ext cx="4953240" cy="4876920"/>
            <a:chOff x="3581280" y="1066320"/>
            <a:chExt cx="4953240" cy="4876920"/>
          </a:xfrm>
        </p:grpSpPr>
        <p:sp>
          <p:nvSpPr>
            <p:cNvPr id="239" name=""/>
            <p:cNvSpPr/>
            <p:nvPr/>
          </p:nvSpPr>
          <p:spPr>
            <a:xfrm flipV="1">
              <a:off x="3581280" y="106560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491200">
              <a:off x="4781520" y="1958400"/>
              <a:ext cx="2409840" cy="1014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 Narrow"/>
                </a:rPr>
                <a:t>Greater Stu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 Narrow"/>
                </a:rPr>
                <a:t>Achieve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066680" y="1066680"/>
            <a:ext cx="4953240" cy="4876920"/>
            <a:chOff x="1066680" y="1066680"/>
            <a:chExt cx="4953240" cy="4876920"/>
          </a:xfrm>
        </p:grpSpPr>
        <p:sp>
          <p:nvSpPr>
            <p:cNvPr id="242" name=""/>
            <p:cNvSpPr/>
            <p:nvPr/>
          </p:nvSpPr>
          <p:spPr>
            <a:xfrm>
              <a:off x="1066680" y="1066680"/>
              <a:ext cx="4953240" cy="487692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2500200"/>
              <a:ext cx="20574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Cont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1080" y="3962520"/>
              <a:ext cx="320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0200" y="5105520"/>
              <a:ext cx="388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1cb"/>
                  </a:solidFill>
                  <a:latin typeface="Arial"/>
                </a:rPr>
                <a:t>Produ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581280"/>
              <a:ext cx="2514600" cy="0"/>
            </a:xfrm>
            <a:prstGeom prst="line">
              <a:avLst/>
            </a:prstGeom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76520" y="4800600"/>
              <a:ext cx="3733560" cy="0"/>
            </a:xfrm>
            <a:prstGeom prst="line">
              <a:avLst/>
            </a:prstGeom>
            <a:ln w="41400">
              <a:solidFill>
                <a:srgbClr val="0081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77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770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390920" y="209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Activities</a:t>
            </a:r>
            <a:endParaRPr b="0" lang="en-US" sz="8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486400" cy="44434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Circumlocution Exercis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"/>
              </a:rPr>
              <a:t>Partner A looks at overhead and tries to explain the word without using it. (No hand move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"/>
              </a:rPr>
              <a:t>Partner B doesn’t look at overhead, listens and tries to guess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utura"/>
              </a:rPr>
              <a:t>Second round reverse ro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Circumlocution Exercis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First round- 3 different words-remember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NO HAND MOVEMENTS!!!!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1.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whale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2. boundary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3. iro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Circumlocution Exercis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Second round- 3 different words-remember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NO HAND MOVEMENTS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1.  technology</a:t>
            </a: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2.  aweso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3.  scroll</a:t>
            </a:r>
            <a:r>
              <a:rPr b="1" lang="en-US" sz="2800" spc="-1" strike="noStrike">
                <a:solidFill>
                  <a:srgbClr val="ffff00"/>
                </a:solidFill>
                <a:latin typeface="Futur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191120" y="1980720"/>
            <a:ext cx="441936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Futura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Do not confine your children to your own learning, for they were born in another time.”           -Hebrew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7520" y="1981080"/>
            <a:ext cx="27450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A Thought…</a:t>
            </a:r>
            <a:endParaRPr b="0" lang="en-US" sz="7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utura"/>
              </a:rPr>
              <a:t>Create Categories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elon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rticho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n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ango-gua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hocol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om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y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herry garcia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afé au la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nions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utter pec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zucchi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hamom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ocky roa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a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as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at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ubble gum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qua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xpres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vocad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ocha steamer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anil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rawberry swirl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e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abbage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ouble expresso lat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800" y="2630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ART START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724280" cy="45673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81024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724280" y="1905120"/>
            <a:ext cx="4083120" cy="46479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40000" y="1981080"/>
            <a:ext cx="26640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63960" y="1981080"/>
            <a:ext cx="30160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6775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lang="en-US" sz="8800" spc="-1" strike="noStrike">
                <a:solidFill>
                  <a:srgbClr val="ffffff"/>
                </a:solidFill>
                <a:latin typeface="Futura"/>
              </a:rPr>
              <a:t>“</a:t>
            </a:r>
            <a:r>
              <a:rPr b="1" lang="en-US" sz="8800" spc="-1" strike="noStrike">
                <a:solidFill>
                  <a:srgbClr val="ffffff"/>
                </a:solidFill>
                <a:latin typeface="Futura"/>
              </a:rPr>
              <a:t>Gut” guessers</a:t>
            </a:r>
            <a:endParaRPr b="0" lang="en-US" sz="8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Futura"/>
              </a:rPr>
              <a:t>Activities</a:t>
            </a:r>
            <a:endParaRPr b="0" lang="en-US" sz="88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Find a person with the answer ga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Vocabulary Team Brainstorming Activi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991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Grocery Shopping</a:t>
            </a:r>
            <a:endParaRPr b="0" lang="en-US" sz="7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Math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a"/>
              </a:rPr>
              <a:t>The Tree of Life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816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969696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22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Futura"/>
              </a:rPr>
              <a:t>Critical and Creative Thinking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1520280" y="614520"/>
            <a:ext cx="1170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Higher-level thinking skil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124080" y="1951200"/>
            <a:ext cx="2743200" cy="4449600"/>
          </a:xfrm>
          <a:prstGeom prst="upArrow">
            <a:avLst>
              <a:gd name="adj1" fmla="val 50000"/>
              <a:gd name="adj2" fmla="val 40551"/>
            </a:avLst>
          </a:prstGeom>
          <a:gradFill rotWithShape="0">
            <a:gsLst>
              <a:gs pos="0">
                <a:srgbClr val="0081cb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Bloom’s Taxonomy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28640" y="2332080"/>
            <a:ext cx="3962520" cy="4525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4114800"/>
            <a:ext cx="3733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858000" y="266652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41148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2600" y="22906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484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5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500"/>
            </a:br>
            <a:endParaRPr b="0" lang="en-US" sz="55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62940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Futura"/>
              </a:rPr>
              <a:t>Activities</a:t>
            </a:r>
            <a:endParaRPr b="0" lang="en-US" sz="7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What type of question is 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Apply questioning techniques to content topic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91720" cy="62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Futura"/>
              </a:rPr>
              <a:t>Student generated questions and answers</a:t>
            </a:r>
            <a:endParaRPr b="0" lang="en-US" sz="8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transition spd="slow">
    <p:cover dir="u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Futura"/>
              </a:rPr>
              <a:t>Create questions in the chart below.  Answer your own ques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43000" y="1219320"/>
          <a:ext cx="6934320" cy="5257800"/>
        </p:xfrm>
        <a:graphic>
          <a:graphicData uri="http://schemas.openxmlformats.org/drawingml/2006/table">
            <a:tbl>
              <a:tblPr/>
              <a:tblGrid>
                <a:gridCol w="2141640"/>
                <a:gridCol w="2141280"/>
                <a:gridCol w="2651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on wo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y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f? ? (If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utura"/>
              </a:rPr>
              <a:t>Types of Writing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Descriptiv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Exposito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Narrativ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utura"/>
              </a:rPr>
              <a:t>Argumentative or Persuasiv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Futura"/>
              </a:rPr>
              <a:t>R.A.F.T.</a:t>
            </a: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writing</a:t>
            </a:r>
            <a:br>
              <a:rPr sz="4400"/>
            </a:br>
            <a:r>
              <a:rPr b="1" lang="en-US" sz="4000" spc="-1" strike="noStrike">
                <a:solidFill>
                  <a:srgbClr val="ffffff"/>
                </a:solidFill>
                <a:latin typeface="Futura"/>
              </a:rPr>
              <a:t>(provides purpose for writing)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666880"/>
            <a:ext cx="855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R-role of the write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A-audi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F-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Futura"/>
              </a:rPr>
              <a:t>T-topic (+strong verb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676520" y="291960"/>
            <a:ext cx="56386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.A.F.T. Assignment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rench 2--Traveling in Franc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371600" y="1243080"/>
            <a:ext cx="67816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R.A.F.T.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87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28600" y="1752480"/>
          <a:ext cx="8610480" cy="218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10480" cy="218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55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 spd="slow">
    <p:cover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20680" y="596592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1066680"/>
            <a:ext cx="0" cy="4926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9760" y="1111320"/>
            <a:ext cx="7779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Futura"/>
                <a:ea typeface="Lucida Grande"/>
              </a:rPr>
              <a:t>KNOW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Futura"/>
                <a:ea typeface="Lucida Grande"/>
              </a:rPr>
              <a:t>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5950080"/>
            <a:ext cx="4343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"/>
                <a:ea typeface="Lucida Grande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21080" y="1108080"/>
            <a:ext cx="0" cy="484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20680" y="361152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78200" y="4133880"/>
            <a:ext cx="958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75320" y="4097160"/>
            <a:ext cx="936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73880" y="1276200"/>
            <a:ext cx="1006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08080" y="1357200"/>
            <a:ext cx="1005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6469200"/>
            <a:ext cx="59421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8600" y="1063800"/>
            <a:ext cx="0" cy="4721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71720" y="343080"/>
            <a:ext cx="69721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800" spc="-1" strike="noStrike">
                <a:solidFill>
                  <a:srgbClr val="fcff00"/>
                </a:solidFill>
                <a:latin typeface="Futura"/>
                <a:ea typeface="Arial"/>
              </a:rPr>
              <a:t>Rigor/Relevance Frame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00040" y="1980720"/>
            <a:ext cx="563868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Futura"/>
              </a:rPr>
              <a:t>The teacher, if indeed wise, does not bid you to enter the house of her/his wisdom, but leads you to the threshold of you own mind.”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utura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Futura"/>
              </a:rPr>
              <a:t>Kahlil Gibran-Lebanese poet,   (1883-1931</a:t>
            </a: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2745000" cy="40384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a"/>
              </a:rPr>
              <a:t>Another Thought…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434880"/>
            <a:ext cx="800100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Futura"/>
                <a:ea typeface="Arial"/>
              </a:rPr>
              <a:t>Knowledge Taxonomy-(Bloom’s)</a:t>
            </a:r>
            <a:endParaRPr b="0" lang="en-US" sz="37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4" name=""/>
          <p:cNvSpPr/>
          <p:nvPr/>
        </p:nvSpPr>
        <p:spPr>
          <a:xfrm>
            <a:off x="422280" y="571680"/>
            <a:ext cx="8024760" cy="936360"/>
          </a:xfrm>
          <a:prstGeom prst="roundRect">
            <a:avLst>
              <a:gd name="adj" fmla="val 11250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50800" y="5286240"/>
            <a:ext cx="5257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 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1. Knowledg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97160" y="4653000"/>
            <a:ext cx="4903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2. Comprehens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87440" y="3983040"/>
            <a:ext cx="3726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3. Application</a:t>
            </a: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7960" y="3313080"/>
            <a:ext cx="30052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4.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Analysi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92120" y="2643120"/>
            <a:ext cx="33591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5.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Synthesis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93920" y="1974960"/>
            <a:ext cx="35319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 </a:t>
            </a:r>
            <a:r>
              <a:rPr b="1" lang="en-US" sz="4100" spc="-1" strike="noStrike">
                <a:solidFill>
                  <a:srgbClr val="fcff00"/>
                </a:solidFill>
                <a:latin typeface="Arial"/>
                <a:ea typeface="Arial"/>
              </a:rPr>
              <a:t>6. </a:t>
            </a:r>
            <a:r>
              <a:rPr b="1" lang="en-US" sz="4100" spc="-1" strike="noStrike">
                <a:solidFill>
                  <a:srgbClr val="fcff00"/>
                </a:solidFill>
                <a:latin typeface="Futura"/>
                <a:ea typeface="Arial"/>
              </a:rPr>
              <a:t>Evaluation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80960" y="609480"/>
            <a:ext cx="681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39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  <a:ea typeface="Arial"/>
              </a:rPr>
              <a:t>Application Model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5200" y="1905120"/>
            <a:ext cx="7775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360" tIns="46800" bIns="46800" anchor="ctr">
            <a:normAutofit fontScale="87000"/>
          </a:bodyPr>
          <a:p>
            <a:pPr marL="313200" indent="0"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cff00"/>
                </a:solidFill>
                <a:latin typeface="Arial"/>
                <a:ea typeface="Arial"/>
              </a:rPr>
              <a:t>1  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Knowledge of one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2   Application within discip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3   Application across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discip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4   Application to real-world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    predictable sit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841320"/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5   Application to real-world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	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</a:rPr>
              <a:t>  </a:t>
            </a:r>
            <a:r>
              <a:rPr b="1" lang="en-US" sz="3200" spc="-1" strike="noStrike">
                <a:solidFill>
                  <a:srgbClr val="fcff00"/>
                </a:solidFill>
                <a:latin typeface="Futura"/>
                <a:ea typeface="Arial"/>
              </a:rPr>
              <a:t>unpredictable sit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434880"/>
            <a:ext cx="7467480" cy="936720"/>
          </a:xfrm>
          <a:prstGeom prst="roundRect">
            <a:avLst>
              <a:gd name="adj" fmla="val 11250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819520" y="4952880"/>
            <a:ext cx="502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066680"/>
            <a:ext cx="4572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4320" rIns="184320" tIns="92160" bIns="92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6680" y="6095880"/>
            <a:ext cx="3735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3352680"/>
            <a:ext cx="5076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3809880"/>
            <a:ext cx="761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0960" y="380988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692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2864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1920" y="152280"/>
            <a:ext cx="8563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Rigor/Relevance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15238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aluation 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3880" y="213372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nthesis 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266688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ysis 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32004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lication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3809880"/>
            <a:ext cx="205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prehension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4343400"/>
            <a:ext cx="160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wareness 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95480" y="4876920"/>
            <a:ext cx="91440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4876920"/>
            <a:ext cx="1066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npredictabl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predictable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4876920"/>
            <a:ext cx="1143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across discip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357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962520"/>
            <a:ext cx="3063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Memorize the countries in the European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Answer the multiple choice vocabulary quiz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1143000"/>
            <a:ext cx="312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Analyze both sides of the reasons for the start of the Civil Wa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Design a storyboard for the African legen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19720" y="1066680"/>
            <a:ext cx="3504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Obtain historical data about weather in a certain city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Design a PowerPoint movie as a entry to a “solve a world” problem conte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56160" y="3897360"/>
            <a:ext cx="3597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Calculate percentages of advertising in a Spanish news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"/>
                <a:ea typeface="Arial"/>
              </a:rPr>
              <a:t>Organize and display collected data from the food preference survey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382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1143000"/>
            <a:ext cx="3124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1066680"/>
            <a:ext cx="3504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56160" y="3897360"/>
            <a:ext cx="3597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00200" y="1447920"/>
            <a:ext cx="5867280" cy="2654280"/>
          </a:xfrm>
          <a:prstGeom prst="rect">
            <a:avLst/>
          </a:prstGeom>
          <a:solidFill>
            <a:srgbClr val="0081cb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Memorize the countries in the European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Answer the multiple choice vocabulary qui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Calculate volume of simple three- dimensional sha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407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962520"/>
            <a:ext cx="3063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1143000"/>
            <a:ext cx="3124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19720" y="1066680"/>
            <a:ext cx="3504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76520" y="1143000"/>
            <a:ext cx="5562360" cy="4483080"/>
          </a:xfrm>
          <a:prstGeom prst="rect">
            <a:avLst/>
          </a:prstGeom>
          <a:solidFill>
            <a:srgbClr val="0081cb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Calculate percentages of advertising in a Spanish newspap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Tour the school building and identify examples of parallel and perpendicular lines, planes, and ang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Organize and display collected data from the food preference survey, using appropriate tables, charts, or graphs.</a:t>
            </a:r>
            <a:r>
              <a:rPr b="0" lang="en-US" sz="2400" spc="-1" strike="noStrike">
                <a:solidFill>
                  <a:srgbClr val="ffffff"/>
                </a:solidFill>
                <a:latin typeface="Futur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432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3962520"/>
            <a:ext cx="3063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1066680"/>
            <a:ext cx="3504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556160" y="3897360"/>
            <a:ext cx="3597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1295280"/>
            <a:ext cx="5943600" cy="3385800"/>
          </a:xfrm>
          <a:prstGeom prst="rect">
            <a:avLst/>
          </a:prstGeom>
          <a:solidFill>
            <a:srgbClr val="0081cb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Analyze both sides of the reasons for the start of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Design a storyboard for the African leg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Identify coordinates for ordered pairs that satisfy an algebraic relation or fun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1066680" y="1092240"/>
            <a:ext cx="7061400" cy="5003640"/>
            <a:chOff x="1066680" y="1092240"/>
            <a:chExt cx="7061400" cy="5003640"/>
          </a:xfrm>
        </p:grpSpPr>
        <p:sp>
          <p:nvSpPr>
            <p:cNvPr id="457" name=""/>
            <p:cNvSpPr/>
            <p:nvPr/>
          </p:nvSpPr>
          <p:spPr>
            <a:xfrm>
              <a:off x="1092240" y="6095880"/>
              <a:ext cx="7035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66680" y="1092240"/>
              <a:ext cx="0" cy="497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44880" y="49150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4880" y="4076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4880" y="3314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880" y="25146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4880" y="179064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4880" y="102888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450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1644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2492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0760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02880" y="6039000"/>
            <a:ext cx="6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17840" y="1079640"/>
            <a:ext cx="0" cy="490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92240" y="3695760"/>
            <a:ext cx="6807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76400" y="4222800"/>
            <a:ext cx="97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72080" y="4184640"/>
            <a:ext cx="100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B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31040" y="1365120"/>
            <a:ext cx="10836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27880" y="1441440"/>
            <a:ext cx="95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New York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03560" y="374760"/>
            <a:ext cx="6273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New York"/>
              </a:rPr>
              <a:t>Rigor/Relevance Frame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19320" y="3962520"/>
            <a:ext cx="3063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1143000"/>
            <a:ext cx="3124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56160" y="3897360"/>
            <a:ext cx="3597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752480" y="1143000"/>
            <a:ext cx="5486400" cy="4848840"/>
          </a:xfrm>
          <a:prstGeom prst="rect">
            <a:avLst/>
          </a:prstGeom>
          <a:solidFill>
            <a:srgbClr val="0081cb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Obtain historical data about weather in a certain city to predict the chance of snow, rain, or sun during ye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"/>
                <a:ea typeface="Arial"/>
              </a:rPr>
              <a:t>Design a PowerPoint movie as a entry to a “solve a world” problem con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120680" y="596736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142640" y="1482840"/>
            <a:ext cx="17640" cy="4508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1200" y="1130400"/>
            <a:ext cx="77652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184680" tIns="89280" bIns="8928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5400" y="5956200"/>
            <a:ext cx="38876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184680" tIns="89280" bIns="89280" anchor="ctr">
            <a:noAutofit/>
          </a:bodyPr>
          <a:p>
            <a:pPr marL="954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22880" y="1517760"/>
            <a:ext cx="0" cy="4438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20680" y="361620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6120" y="3911760"/>
            <a:ext cx="965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040360" y="3875040"/>
            <a:ext cx="936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02200" y="1428840"/>
            <a:ext cx="1008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19120" y="1527120"/>
            <a:ext cx="10080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54280" y="6473880"/>
            <a:ext cx="5940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31840" y="1061640"/>
            <a:ext cx="0" cy="47228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81080" y="-12600"/>
            <a:ext cx="697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Futura"/>
                <a:ea typeface="Arial"/>
              </a:rPr>
              <a:t>Rigor/Relevance Fra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65240" y="4540320"/>
            <a:ext cx="2124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ac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31920" y="581040"/>
            <a:ext cx="6973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Futura"/>
                <a:ea typeface="Arial"/>
              </a:rPr>
              <a:t>Teacher/Student Rol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65240" y="2039760"/>
            <a:ext cx="212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80040" y="2039760"/>
            <a:ext cx="3249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 &amp; 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51360" y="4540320"/>
            <a:ext cx="16606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de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Futura"/>
                <a:ea typeface="Arial"/>
              </a:rPr>
              <a:t>Quadrant A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19000" y="1531800"/>
            <a:ext cx="7258320" cy="47196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94000"/>
          </a:bodyPr>
          <a:p>
            <a:pPr marL="537120" indent="0">
              <a:spcBef>
                <a:spcPts val="1199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ad a paragraph from a tourist brochure and plot the 10 most popular cities in France to visit on the map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Futura"/>
              </a:rPr>
              <a:t>Essential Question: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utura"/>
              </a:rPr>
              <a:t>How do teachers vary instruction and assessment in order to be responsive to the needs of all students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Futura"/>
                <a:ea typeface="Arial"/>
              </a:rPr>
              <a:t>Quadrant B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19000" y="1531800"/>
            <a:ext cx="7166160" cy="41148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95000"/>
          </a:bodyPr>
          <a:p>
            <a:pPr marL="542880" indent="0">
              <a:spcBef>
                <a:spcPts val="9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Lucida Grande"/>
              </a:rPr>
              <a:t>Choose six cities that you like and plan and design a two week trip.  Include details of things to visit, hotels and restaurants and plot your trip on a ma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Futura"/>
                <a:ea typeface="Arial"/>
              </a:rPr>
              <a:t>Quadrant C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391520" cy="47196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97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Do research on cities and regions of France according to types of activities and weather you prefer. Create a 10 slide PowerPoint to share your tri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3600" y="0"/>
            <a:ext cx="7167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Futura"/>
                <a:ea typeface="Arial"/>
              </a:rPr>
              <a:t>Quadrant D</a:t>
            </a:r>
            <a:endParaRPr b="0" lang="en-US" sz="5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258320" cy="45720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txBody>
          <a:bodyPr lIns="90000" rIns="45720" tIns="46800" bIns="46800" anchor="ctr">
            <a:normAutofit fontScale="85000"/>
          </a:bodyPr>
          <a:p>
            <a:pPr marL="485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55872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Lucida Grande"/>
              </a:rPr>
              <a:t>There is a group of 15 people of various ages and preferences.  Plan the best two-week trip for this group considering and negotiating these preferences. Create a marketing brochure to inform and persuade th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819520" y="4952880"/>
            <a:ext cx="5029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1952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1066680"/>
            <a:ext cx="4572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4320" rIns="184320" tIns="92160" bIns="92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86680" y="6095880"/>
            <a:ext cx="3735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4320" rIns="184320" tIns="92160" bIns="92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1447920"/>
            <a:ext cx="0" cy="35049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3352680"/>
            <a:ext cx="5076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3809880"/>
            <a:ext cx="761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90960" y="3809880"/>
            <a:ext cx="5882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6692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28640" y="22860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1920" y="152280"/>
            <a:ext cx="8563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Futura"/>
              </a:rPr>
              <a:t>Rigor/Relevance 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15238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valuation 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213372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nthesis 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2666880"/>
            <a:ext cx="1371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ysis 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71600" y="32004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plication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3809880"/>
            <a:ext cx="205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prehension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4343400"/>
            <a:ext cx="160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wareness 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95480" y="4876920"/>
            <a:ext cx="91440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4876920"/>
            <a:ext cx="1066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in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one discip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unpredictable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4876920"/>
            <a:ext cx="1295280" cy="12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to real-world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predictable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it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4876920"/>
            <a:ext cx="1143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ply knowledge 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across discip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120680" y="5965920"/>
            <a:ext cx="69818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43000" y="1066680"/>
            <a:ext cx="0" cy="4926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9760" y="1111320"/>
            <a:ext cx="7779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Futura"/>
                <a:ea typeface="Lucida Grande"/>
              </a:rPr>
              <a:t>KNOW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Futura"/>
                <a:ea typeface="Lucida Grande"/>
              </a:rPr>
              <a:t>ED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950080"/>
            <a:ext cx="4343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6840" tIns="91440" bIns="91440" anchor="ctr">
            <a:noAutofit/>
          </a:bodyPr>
          <a:p>
            <a:pPr marL="9360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"/>
                <a:ea typeface="Lucida Grande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21080" y="1108080"/>
            <a:ext cx="0" cy="48466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20680" y="3611520"/>
            <a:ext cx="67532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78200" y="4133880"/>
            <a:ext cx="958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75320" y="4097160"/>
            <a:ext cx="9367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B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73880" y="1276200"/>
            <a:ext cx="10062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D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08080" y="1357200"/>
            <a:ext cx="1005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5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C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6469200"/>
            <a:ext cx="59421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28600" y="1063800"/>
            <a:ext cx="0" cy="4721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71720" y="343080"/>
            <a:ext cx="69721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600" tIns="0" bIns="0" anchor="ctr">
            <a:noAutofit/>
          </a:bodyPr>
          <a:p>
            <a:pPr marL="38160"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800" spc="-1" strike="noStrike">
                <a:solidFill>
                  <a:srgbClr val="fcff00"/>
                </a:solidFill>
                <a:latin typeface="Futura"/>
                <a:ea typeface="Arial"/>
              </a:rPr>
              <a:t>Rigor/Relevance Frame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A Final Thought</a:t>
            </a:r>
            <a:endParaRPr b="0" lang="en-US" sz="72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9520" y="2057400"/>
            <a:ext cx="5334120" cy="4044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"No one has yet realized the wealth of sympathy, the kindness and generosity hidden in the soul of a child. The effort of every true education should be to unlock that treasure."              -</a:t>
            </a: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Emma Gold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541680" cy="48006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07732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oni Theisen</a:t>
            </a:r>
            <a:br>
              <a:rPr sz="60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 High Schoo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ompson School Distric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oveland, CO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CTFL Teacher of the Year 2009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970.412.025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nitheisen@gmail.com</a:t>
            </a:r>
            <a:endParaRPr b="0" lang="en-US" sz="3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55120" y="314280"/>
            <a:ext cx="627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Comparing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935000"/>
            <a:ext cx="89154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Futura"/>
              </a:rPr>
              <a:t>Traditional (T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Futu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Futura"/>
              </a:rPr>
              <a:t>Differentiated (D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Futur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utura"/>
              </a:rPr>
              <a:t>Classroom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828800"/>
            <a:ext cx="754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Futura"/>
              </a:rPr>
              <a:t>What patterns did you notice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1:08:45Z</dcterms:created>
  <dc:creator>Toni Theisen</dc:creator>
  <dc:description/>
  <dc:language>en-US</dc:language>
  <cp:lastModifiedBy>Toni Theisen</cp:lastModifiedBy>
  <dcterms:modified xsi:type="dcterms:W3CDTF">2010-11-03T02:29:29Z</dcterms:modified>
  <cp:revision>256</cp:revision>
  <dc:subject/>
  <dc:title>PowerPoint Presentation</dc:title>
</cp:coreProperties>
</file>